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041C-389F-498E-881A-D3007830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6BC1-2043-48AC-9D43-A04A7243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C4FC-BD08-4D84-AAC8-A028575B6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EDA2-E57B-4A24-86DF-65B56EDF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CD38-F88B-4552-9F93-338531BB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EE1B-31F6-43B4-8B7D-917A2BE6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A647-5BD4-4DE3-A94F-00EE190C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3D2F-D819-4844-AAF4-287F6E99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A6FB-8734-4FB7-843F-961ED80A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B2B2-C4E3-48AE-A63D-D6B2E588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6373-5B88-4E13-B831-656D4E51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6282-58BE-451D-87F9-F66ADDBE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tus Not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iří Be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1305-CBB8-4226-924F-41427EB46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iří Be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čítačová graf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k vzniká obraz v digitálním fotoaparát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bory jsou uloženy na paměťovou kartu nebo do interní pamě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bory se přetáhnou do počíta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bory mohu být upraveny, uloženy, vytisknuty, zálohovány na CD a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y bitmapových souborů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P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jobvyklejší pro zpracování fotograf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primovaný formá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ze snížit kvali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ýhoda – malá velikost soub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ýhoda – v některých případech horší kval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y bitmapových souborů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lké soub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hodné pro pohyblivé efek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fotografie málokdy používa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y bitmapových souborů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R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ormát produkovaný některými apará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hoda – jsou vynechány automatické opravy fotoapará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výhoda – většina fotoaparátů ho nevytváří, je datově objemn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ákladní dělení počítačové grafik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Vektorová grafika – obrázek bereme jako množinu křivek, které lze matematicky popsat. Ukládáme tedy číselné parametry, popisující tvar jednotlivých křivek a jejich umíst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4869000"/>
            <a:ext cx="7056360" cy="129672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ákladní dělení počítačové grafik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Bitmapová (=rastrová) grafika – obrázek vnímáme jako skupinu různobarevných bodů – jakousi moza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619280" y="3017880"/>
          <a:ext cx="5329080" cy="35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017880"/>
                    <a:ext cx="5329080" cy="35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ktorový nebo bitmapový obráze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ktorová grafika – hodí se, pokud pracujeme s jednoduchými objekty bez velkých podrobností – tedy skoro vše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kromě fotograf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itmapová grafika – obvykle ke zpracování nascanovaných nebo vyfotografovaných objektů, poměrně rychle se rozvíj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ze převádět z bitmapové do vektorové grafiky a naopa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ktory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→ bitmapy: Převod je snadný, snaží uložit ve formátu bitové mapy – př. JPEG, GIF, B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Bitmapy → vektory: Převod je možný, ale je velmi nedokonalý a vyžaduje speciální software – př. Corel OCR Trace – provádí se málok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1052280"/>
            <a:ext cx="421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ze kombinov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4000" y="2565360"/>
            <a:ext cx="3898800" cy="22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, často je výhodné používat ve vektorové grafice bitmapové obrázky – můžeme tak využít to lepší z obou systé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314960" y="0"/>
            <a:ext cx="4829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y pro vektorovou grafiku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Corel Draw!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asi nejlepší na světě, ale drah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reslení v balíku Open Office – slušný program zdarma, méně používan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ord, Excel, FrontPage,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PowerPoin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slušné možnosti, na většině počítačů na MZ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y pro bitmapovou grafiku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dobe Photoshop, Corel PhotoPaint – špičkové, ale drah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dobe Photoshop Elements – trochu zjednodušený Adobe Photoshop, ale výrazně levněj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Gimp – trochu slabší, ale zda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S Photo Editor – na většině počítačů MZV, spíše nouzov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lování – na každém počítači, pro skutečnou grafickou práci se neho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k vzniká obraz v digitálním fotoaparát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ětlo se odrazí od objektu, který fotí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ětlo projde objektivem a dopadne na sníma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 -16 mil. buněk zachytí obraz a převedou ho na jedničky a nu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ata projdou procesorem, který zhotoví soubor typu .jpeg, někdy také .raw nebo .t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09:13:59Z</dcterms:created>
  <dc:creator>Jiri</dc:creator>
  <dc:description/>
  <dc:language>en-US</dc:language>
  <cp:lastModifiedBy>Jiří Beran</cp:lastModifiedBy>
  <dcterms:modified xsi:type="dcterms:W3CDTF">2002-10-02T21:33:05Z</dcterms:modified>
  <cp:revision>12</cp:revision>
  <dc:subject/>
  <dc:title>Jiří Beran</dc:title>
</cp:coreProperties>
</file>